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5.jpeg" ContentType="image/jpeg"/>
  <Override PartName="/ppt/media/image7.gif" ContentType="image/gi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5313-DD12-4E4F-AA52-712020501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FB15-FC08-4041-A8C3-8312C7CB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FBE1-81B2-4C63-AB8A-2FBB3B032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D7EA-158E-4FDE-A772-FBEC055A3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A824-D45B-49A2-929A-B94017C1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9798-C782-4789-8C08-317BFFB4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D2F2-474A-4E07-AC89-22B84D3D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1D70-79E6-46DB-8DC3-907D8DF3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2A9D-9D4E-4FC4-A01D-3F732657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0110-94C6-4014-AA5C-31A37B6E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C005-A61A-4722-9EAE-492A719D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46D9-C248-444C-A43E-89E7A758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37DC-A4BE-4188-BD44-A66855F13CC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gif"/><Relationship Id="rId3" Type="http://schemas.openxmlformats.org/officeDocument/2006/relationships/image" Target="../media/image2.png"/><Relationship Id="rId4" Type="http://schemas.openxmlformats.org/officeDocument/2006/relationships/image" Target="../media/image7.gif"/><Relationship Id="rId5" Type="http://schemas.openxmlformats.org/officeDocument/2006/relationships/image" Target="../media/image2.png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gif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2.png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Spajanje trošila u strujnom krug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348614_children-dancing-in-a-circle.jpg"/>
          <p:cNvPicPr/>
          <p:nvPr/>
        </p:nvPicPr>
        <p:blipFill>
          <a:blip r:embed="rId1"/>
          <a:stretch/>
        </p:blipFill>
        <p:spPr>
          <a:xfrm>
            <a:off x="1619280" y="4076640"/>
            <a:ext cx="231624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hildren konga line.JPG"/>
          <p:cNvPicPr/>
          <p:nvPr/>
        </p:nvPicPr>
        <p:blipFill>
          <a:blip r:embed="rId2"/>
          <a:stretch/>
        </p:blipFill>
        <p:spPr>
          <a:xfrm>
            <a:off x="4716360" y="3860640"/>
            <a:ext cx="2340000" cy="17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ontent Placeholder 3" descr="SnapShot(239).jpg"/>
          <p:cNvPicPr/>
          <p:nvPr/>
        </p:nvPicPr>
        <p:blipFill>
          <a:blip r:embed="rId1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6840" y="1197000"/>
            <a:ext cx="8218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Bi li žaruljice svijetlile jednako i kada bismo ih spojili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izravno jednu na drugu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vakav se spoj naziva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aralelan spoj trošila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sporedite sjaj žaruljica sa sjajem žaruljica u serijskom spoj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dvijemo li jednu žaruljicu, hoće li druga nastaviti svijetlit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ontent Placeholder 3" descr="SnapShot(521).jpg"/>
          <p:cNvPicPr/>
          <p:nvPr/>
        </p:nvPicPr>
        <p:blipFill>
          <a:blip r:embed="rId1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0920" y="1615680"/>
            <a:ext cx="346716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hema paralelnog spo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4932360" y="836640"/>
            <a:ext cx="3200400" cy="541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ma li paralelan spoj neke nedostatk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su spojena trošila na produžni kabe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su spojena rasvjetna tijela u učionic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se ponekad dogodi, ako istovremeno uključimo perilicu rublja, glačalo, električni bojler, štednjak i mikrovalnu pećnic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6840" y="1197000"/>
            <a:ext cx="4978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datak: Kako su spojene žaruljice u strujnom krugu na slic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Žaruljice Ž1 i Ž4 spojene su ___________ sa žaruljicama Ž3 i Ž2, spojenima __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Žaruljica Ž5 spojena je paralelno sa 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3384720" cy="337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je dijelove ima jednostavan strujni kru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5"/>
          <a:stretch/>
        </p:blipFill>
        <p:spPr>
          <a:xfrm>
            <a:off x="4859280" y="1413000"/>
            <a:ext cx="3191040" cy="45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bi izgledao strujni krug s dvije žarulji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hema strujnog kruga s dvije žarulji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4"/>
          <a:stretch/>
        </p:blipFill>
        <p:spPr>
          <a:xfrm>
            <a:off x="2700360" y="2997360"/>
            <a:ext cx="3389400" cy="32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strujni krug s dvije žarulj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svijetle žaruljice u ovakvom spoj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erijski spoj krug je onaj u kojemu su žaruljice spojene jedna za drug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ontent Placeholder 3" descr="DSC00822.JPG"/>
          <p:cNvPicPr/>
          <p:nvPr/>
        </p:nvPicPr>
        <p:blipFill>
          <a:blip r:embed="rId1"/>
          <a:stretch/>
        </p:blipFill>
        <p:spPr>
          <a:xfrm>
            <a:off x="555480" y="1600200"/>
            <a:ext cx="8033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Ako jedna od žaruljica pregori, hoće li druga nastaviti svijetlit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će se dogoditi, ako u serijski spoj dviju žaruljica dodamo još jednu žaruljicu? Nacrtajte shem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hema serijskog strujnog kruga s tri žarulji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1566720" y="2492280"/>
            <a:ext cx="601056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539640" y="1341360"/>
            <a:ext cx="8064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bismo još mogli spojiti žaruljice, a da svaka od njih svijetli kao da je samo ona spojena na baterij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Žaruljice bismo mogli spojiti svaku u svoj strjni krug, koristeći istu baterij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šajte nacrtati shemu takvog spoj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zgleda li vaš strujni krug slično ovom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4572000" y="1341360"/>
            <a:ext cx="280368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09:51:53Z</dcterms:created>
  <dc:creator>Zdenka</dc:creator>
  <dc:description/>
  <dc:language>en-US</dc:language>
  <cp:lastModifiedBy>Zdenko</cp:lastModifiedBy>
  <dcterms:modified xsi:type="dcterms:W3CDTF">2014-07-18T09:21:45Z</dcterms:modified>
  <cp:revision>17</cp:revision>
  <dc:subject/>
  <dc:title>Spajanje trošila u strujnom krugu</dc:title>
</cp:coreProperties>
</file>